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080" y="687240"/>
            <a:ext cx="4567320" cy="3424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DCEF09-203F-423B-B98A-C1EBBBB45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o use a data set, you first allocate it (establish a link to it), then access the data 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cros for the access method that you have cho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lo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 a data set means either or both of two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o set aside (create) space for a new data set o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o establish a logical link between a job step and any data s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structor No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nlike other types of data sets, every VSAM data set must be catalogu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o define </a:t>
            </a:r>
            <a:r>
              <a:rPr b="0" lang="en-US" sz="1200" spc="-1" strike="noStrike">
                <a:solidFill>
                  <a:srgbClr val="010000"/>
                </a:solidFill>
                <a:latin typeface="Times New Roman"/>
                <a:ea typeface="Arial Unicode MS"/>
              </a:rPr>
              <a:t>VSAM data sets using both IDCAMS and JCL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VS/ESA and the MVS/XA environment, DFP (Data Facility Product) version 2, Release 3 must be inst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structor No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 most cases, such as when coding the Job Controlled Language (JCL) statement to describe a VSAM data set, the cluster name is used. When a cluster is opened, all physical data sets it represents are opened auto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distinction between “cluster” and “data set” is necessary only when considering the physical components of a VSAM data set. The term data set is used quite frequently in the various VSAM manuals and in this cour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context will tell whether a physical data set or a logical data set (a cluster) is being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structor No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1A2B-0660-4161-A163-BE12524385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3ED7-3532-47A3-A023-0F44380B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D303-EE2B-4E9B-A282-D4CC122B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1D46-3AD9-41F3-A255-AC89BA9965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E0B6-014B-4C0C-BA00-085CC82B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5134-84AB-4168-BF2D-4A0AE842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E757-F713-4EAA-995A-960E7AE5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4DDA-12F6-407A-BE7E-A3B89B4E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522BB-08E6-43AF-9A74-2949B954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9E6C8-F9A0-4EA7-B1F4-86E0C86C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4A60-E485-4035-B1A3-EDE8EF95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D71E-7E28-4C75-9B7A-4C962486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Scale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6295CBD-89D7-4532-898B-CAB3C027A5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2216160"/>
            <a:ext cx="5302080" cy="189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cture 6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sing VSAM Data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25DC-FD4E-4E42-8FF0-36FB27D86F20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82080"/>
            <a:ext cx="586728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locating a data 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107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se a data set, you fir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oc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88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ys to allocate a data s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F data set panel, option 3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O ALLOCATE comm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Control Language (JC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Method Servi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DCAM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 Catalog Access Method Serv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7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access the data using the access method that you have cho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4CE8-F6C2-42C7-9D04-51A46ACA6D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626080" y="1297080"/>
            <a:ext cx="2832120" cy="4721040"/>
          </a:xfrm>
          <a:prstGeom prst="rect">
            <a:avLst/>
          </a:prstGeom>
          <a:noFill/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5181480" cy="48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creating catalog entries for a VSAM data set and allocating space for them is called defining the data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 set must be defined before it is loaded with data or accessed by a processing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SAM data sets can be defined using eith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C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C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36360"/>
            <a:ext cx="6629400" cy="76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fining a VSAM Data 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943600" y="1525680"/>
            <a:ext cx="2433600" cy="3865320"/>
            <a:chOff x="5943600" y="1525680"/>
            <a:chExt cx="2433600" cy="3865320"/>
          </a:xfrm>
        </p:grpSpPr>
        <p:sp>
          <p:nvSpPr>
            <p:cNvPr id="115" name=""/>
            <p:cNvSpPr/>
            <p:nvPr/>
          </p:nvSpPr>
          <p:spPr>
            <a:xfrm>
              <a:off x="6027840" y="4516560"/>
              <a:ext cx="1131840" cy="868320"/>
            </a:xfr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70680" y="4513320"/>
              <a:ext cx="1098360" cy="784080"/>
            </a:xfr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3840" y="4513320"/>
              <a:ext cx="300240" cy="403200"/>
            </a:xfr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32520" y="4824360"/>
              <a:ext cx="1144440" cy="541440"/>
            </a:xfr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35800" y="4759200"/>
              <a:ext cx="261720" cy="500040"/>
            </a:xfr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76800" y="4495680"/>
              <a:ext cx="1097280" cy="793800"/>
            </a:xfr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78520" y="4495680"/>
              <a:ext cx="300240" cy="401760"/>
            </a:xfr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7200" y="4807080"/>
              <a:ext cx="1143000" cy="541080"/>
            </a:xfr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05520" y="4888080"/>
              <a:ext cx="263520" cy="502920"/>
            </a:xfr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91360" y="4986360"/>
              <a:ext cx="909720" cy="404640"/>
            </a:xfr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41920" y="4741920"/>
              <a:ext cx="260640" cy="517320"/>
            </a:xfr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27640" y="4794120"/>
              <a:ext cx="454320" cy="347760"/>
            </a:xfr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1480" y="4587840"/>
              <a:ext cx="399960" cy="501840"/>
            </a:xfr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943600" y="1525680"/>
              <a:ext cx="1525680" cy="2255760"/>
              <a:chOff x="5943600" y="1525680"/>
              <a:chExt cx="1525680" cy="2255760"/>
            </a:xfrm>
          </p:grpSpPr>
          <p:graphicFrame>
            <p:nvGraphicFramePr>
              <p:cNvPr id="129" name=""/>
              <p:cNvGraphicFramePr/>
              <p:nvPr/>
            </p:nvGraphicFramePr>
            <p:xfrm>
              <a:off x="5961240" y="1590840"/>
              <a:ext cx="1508040" cy="2190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961240" y="1590840"/>
                        <a:ext cx="1508040" cy="219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1" name=""/>
              <p:cNvSpPr/>
              <p:nvPr/>
            </p:nvSpPr>
            <p:spPr>
              <a:xfrm>
                <a:off x="5991120" y="2897280"/>
                <a:ext cx="1160640" cy="2714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975280" y="2173320"/>
                <a:ext cx="1292400" cy="239760"/>
              </a:xfrm>
              <a:solidFill>
                <a:srgbClr val="fe7f0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975280" y="2554200"/>
                <a:ext cx="1292400" cy="235080"/>
              </a:xfrm>
              <a:solidFill>
                <a:srgbClr val="fe7f0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975280" y="2933640"/>
                <a:ext cx="1292400" cy="236520"/>
              </a:xfrm>
              <a:solidFill>
                <a:srgbClr val="fe7f0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43600" y="2519280"/>
                <a:ext cx="1162080" cy="2714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961240" y="2139840"/>
                <a:ext cx="1161720" cy="2732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972040" y="1525680"/>
                <a:ext cx="1293840" cy="592200"/>
              </a:xfrm>
              <a:prstGeom prst="ellipse">
                <a:avLst/>
              </a:prstGeom>
              <a:gradFill rotWithShape="0">
                <a:gsLst>
                  <a:gs pos="0">
                    <a:srgbClr val="48b0be"/>
                  </a:gs>
                  <a:gs pos="100000">
                    <a:srgbClr val="51c5d5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V="1">
              <a:off x="6437160" y="3665520"/>
              <a:ext cx="1800" cy="82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65760" y="3676680"/>
              <a:ext cx="1800" cy="81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40640" y="2319480"/>
              <a:ext cx="736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S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68CF5-4F18-452F-AA1D-F7159F4864B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160200"/>
            <a:ext cx="5068800" cy="250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 Example of Using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 Indexed Dataset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(KS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FDDC-4C5A-4B8C-A0DD-55A7F3775A4F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1800"/>
            <a:ext cx="91440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reating a VSAM Dataset Using JC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685800"/>
            <a:ext cx="8915400" cy="484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//CREATEKS JOB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//STEP1    EXEC PGM=IDCAMS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//SYSPRINT DD   SYSOUT=*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//SYSIN    DD   *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DEFINE    CLUSTER  (NAME(KC02170.DATATEST.T08)      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RECORDS(15 15)                                                       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RECORDSIZE(71 71)                                                 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KEYS(11 0)                                                                 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INDEXED)                                                                  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DATA     (NAME(KC02170.DATATEST.T08.DAT))       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INDEX    (NAME(KC02170.DATATEST.T08.IDX))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/*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//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563868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164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ey is 11 bytes, starting at location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verage record size is 71 bytes (as well as the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cords are initially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4295-C705-4D76-8268-5F8EF731C17B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4440" y="-1800"/>
            <a:ext cx="874728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leting a VSAM Dataset Using JC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914400"/>
            <a:ext cx="8915400" cy="265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112 //DELVSAM  JOB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120 //STEP1    EXEC PGM=IDCAMS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130 //SYSPRINT DD SYSOUT=*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140 //SYSIN    DD *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400    DELETE    KC02170.DATATEST.V80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900 /*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000 /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E8CE-AD3C-4281-B6CC-250B7AC9B924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1800"/>
            <a:ext cx="91440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ding an Account - initial defini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685800"/>
            <a:ext cx="8915400" cy="594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700* file for Reading new account to process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800     Select AcctsFD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900        Assign to "Accts"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000        Access mode is RANDOM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100        Organization is INDEXED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110        Record Key is accountNum of AccountData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200        File Status is AcctsStatus.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210*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300 Data Division.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400 File Section.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500 FD AcctsFD.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700 01 AccountData.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800    05  creditLimit PIC 9(5).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900    05  accountNum    PIC X(6).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910    05  Name          PIC X(10).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920    05  FILLER        PIC X(59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828800"/>
            <a:ext cx="8381880" cy="14479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5486400"/>
            <a:ext cx="8381880" cy="38088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653A4-F117-42CB-BF27-73DF4D5DFD8A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1800"/>
            <a:ext cx="91440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ding an Account - Procedu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320" y="533520"/>
            <a:ext cx="8991360" cy="631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100 Procedure division.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0     perform openAccountData.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1*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2     DISPLAY "Enter new account: "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3     DISPLAY "   Limit 9(5), AccountNum x(6), name X(10)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4     ACCEPT NewAccount.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10*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20     </a:t>
            </a:r>
            <a:r>
              <a:rPr b="0" lang="en-US" sz="2000" spc="-1" strike="noStrike">
                <a:solidFill>
                  <a:srgbClr val="00e000"/>
                </a:solidFill>
                <a:latin typeface="Times New Roman"/>
              </a:rPr>
              <a:t>move name of newAccount to name of AccountData.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30     </a:t>
            </a:r>
            <a:r>
              <a:rPr b="0" lang="en-US" sz="2000" spc="-1" strike="noStrike">
                <a:solidFill>
                  <a:srgbClr val="00e000"/>
                </a:solidFill>
                <a:latin typeface="Times New Roman"/>
              </a:rPr>
              <a:t>move creditLimit of newAccount to creditLimit of Account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40     </a:t>
            </a:r>
            <a:r>
              <a:rPr b="0" lang="en-US" sz="2000" spc="-1" strike="noStrike">
                <a:solidFill>
                  <a:srgbClr val="00e000"/>
                </a:solidFill>
                <a:latin typeface="Times New Roman"/>
              </a:rPr>
              <a:t>move accountNum of newAccount to accountNum of AccountData.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400     write AccountData.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700     if AcctsStatus is not equal to "00"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800          Display "write Error for Acct " AcctsStatus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900     end-if.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000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110     perform closeAccountData.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200     stop ru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A159-0BDA-4ECF-BBC1-527205B37EBA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1800"/>
            <a:ext cx="91440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ding an Account - Open/Clo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755640"/>
            <a:ext cx="8991360" cy="55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300 OpenAccountData.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400      Display "trying to open AcctMast"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500      open I-O AcctsFD.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600      if AcctsStatus is not equal to "00"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700          Display "open Error for Account Status " Accts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800      end-if.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900      exit.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000*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100 CloseAccountData.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200       close AcctsFD.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300       if AcctsStatus is not equal to "00"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400           Display "close Error for AcctMast " AcctsStatu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500       end-if.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600       Display "done closing AccMast"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700       exi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8CA6-9E48-4F37-970F-34591E223163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1800"/>
            <a:ext cx="91440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t all 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84AC9-2672-4A25-830A-990476F0A77A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05280" y="-1800"/>
            <a:ext cx="98298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t All Accounts - Initial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685800"/>
            <a:ext cx="8991360" cy="594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700* file for Reading new account to process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800     Select optional AcctsFD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0900       Assign to "Accts"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000       Access mode is SEQUENTIAL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100       Organization is INDEXED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110       Record Key is AccountNum of AccountData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200       File Status is AcctsStatus.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210*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300 Data Division.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400 File Section.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500 FD AcctsFD.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700 01 AccountData.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800     05  creditLimit PIC 9(5)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900     05  accountNum    PIC X(6).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910     05  Name          PIC X(10).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1920     05  FILLER        PIC X(59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828800"/>
            <a:ext cx="8382240" cy="38088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C2B1-E98B-40A1-AF5C-7681CA84CC1F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06440" y="1152360"/>
            <a:ext cx="6634080" cy="189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viewing Data Sets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en to use what (revisit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1E471-8BEA-4B53-A42E-FE1F4FB7FCF3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05280" y="-1800"/>
            <a:ext cx="98298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t All Accounts - Loop throug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533520"/>
            <a:ext cx="8991360" cy="631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100 Procedure division.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200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0     perform openAccountData.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1*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2     move 1 to moreAccounts.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4     perform until moreAccounts = 0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6          read acctsFD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7              at end  move 0 to moreAccounts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8              not at end  perform outputAccount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9          end-read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20          if AcctsStatus is not equal to "00"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30              Display "read Error for AcctMast " AcctsStatu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40              move 0 to moreAccounts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50          end-if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70     end-perform.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110     perform closeAccountData.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200     stop ru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E056-DD96-4207-94E2-CDDA240549F1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05280" y="-1800"/>
            <a:ext cx="9829800" cy="126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t All Accounts - output a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ingle Accou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1482840"/>
            <a:ext cx="8991360" cy="301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800*---------------------------------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5900* output a record in the account master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6100*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6200  OutputAccount.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6300      Display "Account Number: " AccountNum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6400      Display "    Credit Limit: " creditLi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6500      Display "    Name: " Name.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6800      exi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D70F-5926-44E9-9318-761C5879168F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1800"/>
            <a:ext cx="91440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ting a Specific Accou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F3CD1-A3CE-4247-B5C4-14820432E109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1800"/>
            <a:ext cx="9144000" cy="6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ting an Accou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755640"/>
            <a:ext cx="8991360" cy="594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100 Procedure division.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200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0     perform openAccountData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1*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2     DISPLAY "ENTER ACCOUNT NUMBER X(6)"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3     ACCEPT InputAccountNumber.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4     move InputAccountNumber to AccountNum.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5*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06     read acctsFD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20     if AcctsStatus is not equal to "00"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30          Display "read Error for AcctMast " AcctsStatu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40     else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41          Perform OutputAccount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3350     end-if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110     perform closeAccountData.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e000"/>
                </a:solidFill>
                <a:latin typeface="Times New Roman"/>
              </a:rPr>
              <a:t>004200     stop run.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82D6E-E2A5-4546-9DBA-2B663FD0E762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19320" y="533520"/>
            <a:ext cx="63244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your Reference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dexed File IO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16CF-071D-4EE2-86C6-4C92517537E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457200" y="304920"/>
          <a:ext cx="846936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46936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D669-6C4C-4717-AE58-E7A18940278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04920" y="304920"/>
          <a:ext cx="8521560" cy="60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21560" cy="60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CF4A-BA43-4344-B407-9B1299710BA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065240" y="792000"/>
          <a:ext cx="7453440" cy="555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792000"/>
                    <a:ext cx="7453440" cy="55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861FE-797D-4B7F-8ACE-BDDD8A9B9CD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990720" y="1066680"/>
          <a:ext cx="7486560" cy="36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7486560" cy="36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8B66-1FE0-432C-A1FF-C8F0750D49C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528480" y="463680"/>
          <a:ext cx="8291520" cy="52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463680"/>
                    <a:ext cx="8291520" cy="52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DD67-88F9-4B00-8FA5-377455A0D18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6960" y="228240"/>
            <a:ext cx="5987880" cy="69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quential Data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72520" cy="45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75920" indent="-475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when the hit rate is 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5920" indent="-475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icated to 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nsert, delete, ame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5920" indent="-475920">
              <a:lnSpc>
                <a:spcPct val="90000"/>
              </a:lnSpc>
              <a:spcBef>
                <a:spcPts val="122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when the hit rate is hi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5920" indent="-475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st storage effic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5920" indent="-475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organ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4400" y="981000"/>
            <a:ext cx="27903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4480" y="3429000"/>
            <a:ext cx="22950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0D2F-3911-490F-A0A2-C7AF94DF021B}" type="slidenum">
              <a:t>3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463680" y="225360"/>
          <a:ext cx="7907040" cy="614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225360"/>
                    <a:ext cx="7907040" cy="61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D538-DBFA-4E09-8544-4378F61E255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838080" y="304920"/>
          <a:ext cx="7748640" cy="706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748640" cy="706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B7C3-3EC3-4A6B-9BAB-3CB103C7F36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457200" y="380880"/>
          <a:ext cx="7958160" cy="589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7958160" cy="58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8E1F-AC82-4BF0-8DE4-D6CBBB880B6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533520" y="304920"/>
          <a:ext cx="796896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796896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CDFEB-BA90-4356-BF4D-AF5C3678ED5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533520" y="762120"/>
          <a:ext cx="8424720" cy="367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8424720" cy="36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1E11-2F1E-49CB-9464-61DBFCE4E72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80880" y="457200"/>
          <a:ext cx="8140680" cy="455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1406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8F332-5735-47F5-ACCF-3D5D46076B3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533520" y="762120"/>
          <a:ext cx="8062920" cy="51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806292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F597E-1EA3-4A45-BAB2-C24EF15F12D2}" type="slidenum">
              <a:t>3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0040" y="221760"/>
            <a:ext cx="5146560" cy="69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ve Data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386000"/>
            <a:ext cx="8481960" cy="467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tefu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torage if the file is only partially pop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not recover sp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deleted recor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, numeric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 must map on to the range of the Relative Record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st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 Access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tle storage over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read sequential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0840" y="949320"/>
            <a:ext cx="27903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0840" y="4238640"/>
            <a:ext cx="22950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6FAC6-4E9B-4E5B-B20C-92C6373FC44D}" type="slidenum">
              <a:t>4</a:t>
            </a:fld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" dur="1" fill="hold"/>
                                  <p:tgtEl>
                                    <p:spTgt spid="5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61760" y="228240"/>
            <a:ext cx="6110280" cy="69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dexed Data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480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ow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 Access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pecially s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when adding or deleting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very storage effic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Must store the Index records, the alternate Index records, the data records and the alternate data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8226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, alphanumeric ke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plicate alternate ke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sequenti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ny of its k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ally recover sp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deleted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4520" y="898560"/>
            <a:ext cx="27903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7520" y="3946680"/>
            <a:ext cx="22953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200B5-F830-4013-91E5-7BEDD9BC52F2}" type="slidenum">
              <a:t>5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8800" y="-49680"/>
            <a:ext cx="7300800" cy="187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paring Access Method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Different File Organiz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560" y="1752480"/>
          <a:ext cx="9296280" cy="476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" y="1752480"/>
                    <a:ext cx="9296280" cy="47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5E20-F812-4193-897A-585CD4B5D94D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137880"/>
            <a:ext cx="6658200" cy="184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SAM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Virtual Storage Acces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126F-BDF5-47EB-BC93-2F0180C04E23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439640"/>
            <a:ext cx="4449600" cy="48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KSDS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en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) cluster has two data sets. One data set holds the actual data records. The other data set contains an index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2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ex component permits the direct retrieval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752480" y="-360"/>
            <a:ext cx="62928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us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0560" y="1855800"/>
            <a:ext cx="4381200" cy="3887640"/>
          </a:xfrm>
          <a:prstGeom prst="rect">
            <a:avLst/>
          </a:prstGeom>
          <a:noFill/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583160" y="1920960"/>
            <a:ext cx="4497480" cy="3605400"/>
            <a:chOff x="4583160" y="1920960"/>
            <a:chExt cx="4497480" cy="3605400"/>
          </a:xfrm>
        </p:grpSpPr>
        <p:grpSp>
          <p:nvGrpSpPr>
            <p:cNvPr id="70" name=""/>
            <p:cNvGrpSpPr/>
            <p:nvPr/>
          </p:nvGrpSpPr>
          <p:grpSpPr>
            <a:xfrm>
              <a:off x="4583160" y="2746440"/>
              <a:ext cx="1525680" cy="2259000"/>
              <a:chOff x="4583160" y="2746440"/>
              <a:chExt cx="1525680" cy="2259000"/>
            </a:xfrm>
          </p:grpSpPr>
          <p:graphicFrame>
            <p:nvGraphicFramePr>
              <p:cNvPr id="71" name=""/>
              <p:cNvGraphicFramePr/>
              <p:nvPr/>
            </p:nvGraphicFramePr>
            <p:xfrm>
              <a:off x="4600440" y="2814480"/>
              <a:ext cx="1508400" cy="2190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600440" y="2814480"/>
                        <a:ext cx="1508400" cy="219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" name=""/>
              <p:cNvSpPr/>
              <p:nvPr/>
            </p:nvSpPr>
            <p:spPr>
              <a:xfrm>
                <a:off x="4630680" y="4121280"/>
                <a:ext cx="1160640" cy="2714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621320" y="3397320"/>
                <a:ext cx="1285920" cy="24120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621320" y="3781440"/>
                <a:ext cx="1285920" cy="23328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621320" y="4157640"/>
                <a:ext cx="1285920" cy="23328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83160" y="3743280"/>
                <a:ext cx="1162080" cy="2714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600440" y="3363840"/>
                <a:ext cx="1162080" cy="2732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608360" y="2746440"/>
                <a:ext cx="1300320" cy="598320"/>
              </a:xfrm>
              <a:prstGeom prst="ellipse">
                <a:avLst/>
              </a:prstGeom>
              <a:gradFill rotWithShape="0">
                <a:gsLst>
                  <a:gs pos="0">
                    <a:srgbClr val="48b0be"/>
                  </a:gs>
                  <a:gs pos="100000">
                    <a:srgbClr val="51c5d5"/>
                  </a:gs>
                </a:gsLst>
                <a:lin ang="135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6031080" y="2746440"/>
              <a:ext cx="1525320" cy="2259000"/>
              <a:chOff x="6031080" y="2746440"/>
              <a:chExt cx="1525320" cy="2259000"/>
            </a:xfrm>
          </p:grpSpPr>
          <p:graphicFrame>
            <p:nvGraphicFramePr>
              <p:cNvPr id="81" name=""/>
              <p:cNvGraphicFramePr/>
              <p:nvPr/>
            </p:nvGraphicFramePr>
            <p:xfrm>
              <a:off x="6048360" y="2814480"/>
              <a:ext cx="1508040" cy="2190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048360" y="2814480"/>
                        <a:ext cx="1508040" cy="219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" name=""/>
              <p:cNvSpPr/>
              <p:nvPr/>
            </p:nvSpPr>
            <p:spPr>
              <a:xfrm>
                <a:off x="6078600" y="4121280"/>
                <a:ext cx="1160280" cy="2714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70680" y="3397320"/>
                <a:ext cx="1284120" cy="24120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070680" y="3781440"/>
                <a:ext cx="1284120" cy="23328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070680" y="4157640"/>
                <a:ext cx="1284120" cy="23328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31080" y="3743280"/>
                <a:ext cx="1161720" cy="2714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48360" y="3363840"/>
                <a:ext cx="1162080" cy="2732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56280" y="2746440"/>
                <a:ext cx="1300320" cy="598320"/>
              </a:xfrm>
              <a:prstGeom prst="ellipse">
                <a:avLst/>
              </a:prstGeom>
              <a:gradFill rotWithShape="0">
                <a:gsLst>
                  <a:gs pos="0">
                    <a:srgbClr val="48b0be"/>
                  </a:gs>
                  <a:gs pos="100000">
                    <a:srgbClr val="51c5d5"/>
                  </a:gs>
                </a:gsLst>
                <a:lin ang="135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7554960" y="2670120"/>
              <a:ext cx="1525680" cy="2259000"/>
              <a:chOff x="7554960" y="2670120"/>
              <a:chExt cx="1525680" cy="22590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7572240" y="2738520"/>
              <a:ext cx="1508400" cy="21906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572240" y="2738520"/>
                        <a:ext cx="1508400" cy="219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" name=""/>
              <p:cNvSpPr/>
              <p:nvPr/>
            </p:nvSpPr>
            <p:spPr>
              <a:xfrm>
                <a:off x="7602480" y="4044960"/>
                <a:ext cx="1160640" cy="27144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585200" y="3321000"/>
                <a:ext cx="1293840" cy="24120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585200" y="3703680"/>
                <a:ext cx="1293840" cy="23508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85200" y="4078440"/>
                <a:ext cx="1293840" cy="236520"/>
              </a:xfrm>
              <a:solidFill>
                <a:srgbClr val="fe7f00">
                  <a:alpha val="50000"/>
                </a:srgbClr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554960" y="3666960"/>
                <a:ext cx="1162080" cy="27180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572240" y="3287880"/>
                <a:ext cx="1162080" cy="272880"/>
              </a:xfrm>
              <a:solidFill>
                <a:srgbClr val="00b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580160" y="2670120"/>
                <a:ext cx="1300320" cy="598680"/>
              </a:xfrm>
              <a:prstGeom prst="ellipse">
                <a:avLst/>
              </a:prstGeom>
              <a:gradFill rotWithShape="0">
                <a:gsLst>
                  <a:gs pos="0">
                    <a:srgbClr val="48b0be"/>
                  </a:gs>
                  <a:gs pos="100000">
                    <a:srgbClr val="51c5d5"/>
                  </a:gs>
                </a:gsLst>
                <a:lin ang="135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127840" y="36622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51720" y="369576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48960" y="36194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42040" y="1920960"/>
              <a:ext cx="846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80040" y="5159520"/>
              <a:ext cx="181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lated Data S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63440" y="762120"/>
            <a:ext cx="8980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luster is the collection of physical data sets that make up one logical data set. The concept of a cluster is more suited for a KS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3C6A-C7BE-47AC-9D1D-8043B4832C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63080" y="1523520"/>
            <a:ext cx="8751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00"/>
              </a:spcBef>
              <a:buClr>
                <a:srgbClr val="01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The advantages of VSAM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AM supports more data set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s record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a variety of I/O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greater efficiency for the application programs and for the overal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1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The major limitation of VSAM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2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data sets must reside on DASD. They cannot be created on t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228600" y="84240"/>
            <a:ext cx="861048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vantages and Limitations of VS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0" y="649296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76EF5-1850-4A50-849C-2180E12258F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troduct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22:36:31Z</dcterms:created>
  <dc:creator>Tom Murach</dc:creator>
  <dc:description/>
  <dc:language>en-US</dc:language>
  <cp:lastModifiedBy>Noah Pascarell</cp:lastModifiedBy>
  <dcterms:modified xsi:type="dcterms:W3CDTF">2009-02-10T03:13:54Z</dcterms:modified>
  <cp:revision>34</cp:revision>
  <dc:subject/>
  <dc:title>No Slide Title</dc:title>
</cp:coreProperties>
</file>